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04B-9385-4022-987D-BBF0A4C7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7BB8-6767-42C2-AFAE-18D9DD54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5B79-7C55-4730-9763-FEB91E68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626D-FD7F-4302-9ACF-1E8A8790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3080-3B43-4185-9E4A-9E076196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FCF4-D8B4-407B-88BD-5EC77465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CFD-0D01-4219-A152-2DC721D1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D33A-C99E-4519-A934-90EC5E28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6C3A-6E0C-4171-ABA0-03DB9124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2836-7FA8-47DE-AE1E-E05CAB34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FFF-B528-4D4C-9710-0F2ABDF5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BECD-D3BE-4456-84AA-25EB6EB4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16D9-DD22-4D09-84F8-4762AAB51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044nr1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675480" cy="636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69320" y="727200"/>
            <a:ext cx="208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nt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b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 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s Tichel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444840" y="187200"/>
            <a:ext cx="3713760" cy="2741760"/>
            <a:chOff x="3444840" y="187200"/>
            <a:chExt cx="3713760" cy="2741760"/>
          </a:xfrm>
        </p:grpSpPr>
        <p:pic>
          <p:nvPicPr>
            <p:cNvPr id="44" name="reinerS" descr="reinier s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>
              <a:off x="3444840" y="1872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630480" y="240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5791320" y="6858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ier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045nr13langtop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95160" y="640080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5nr13lang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K046nr13langmid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90120" y="64008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6nr13lang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K047nr13lkortmid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93360" y="6400800"/>
            <a:ext cx="22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7nr13kort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K048nr13lkorttop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98400" y="64008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8nr13kort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9840" y="685800"/>
            <a:ext cx="8718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i Dionn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k antwoord wel erg laat, sorry. Ik had gehoopt je voor m'n vakan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orgen tot 1 sept0 te kunnen verblijden met mooie plaatjes, maar d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elaas niet gelukt voor alle tubes. Ik heb wel geprobeerd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ere tubes op een grid om de instellingen bij 80 kV goed 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rijgen. Het gaat inderdaad veel beter bij 80 kV. Ik heb bijgeslo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atjes van tube nr.13 (blijken er meer dan 1 te zijn!). De scha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erg ongeveer want de TEM is nog niet gecalibreerd bij 80 kV. Be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om de wallspatie als calibratie te gebruik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raag: hebben jullie tubes (single wall of daar dicht bij) op e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straat die we er af kunnen schrapen op een C vlies met gaten? D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ou ons helpen met een ander onderzoek naar de struktuur van tub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iteraard ga ik als ik terug komeerst jouw tubes afbeeld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ten Fr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29080" y="1738440"/>
            <a:ext cx="38862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10:58:19Z</dcterms:created>
  <dc:creator>Dionne</dc:creator>
  <dc:description/>
  <dc:language>en-US</dc:language>
  <cp:lastModifiedBy>Dionne</cp:lastModifiedBy>
  <dcterms:modified xsi:type="dcterms:W3CDTF">2003-08-06T11:14:31Z</dcterms:modified>
  <cp:revision>5</cp:revision>
  <dc:subject/>
  <dc:title>PowerPoint Presentation</dc:title>
</cp:coreProperties>
</file>